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8EC7-F806-41B5-BA95-D5DB04B89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729-E360-4FBF-AFE8-6B7546F15AC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3025-929F-4F1A-BB89-3765601CEBA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0DF8-5478-4662-B26A-7219394D411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3606-5B72-460A-99AF-342349AE718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B0D5-3FDA-4D7E-ACA4-E8CA50E0971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F7C-E096-46E2-8488-48ABA15C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630-5BB5-45A3-99CF-1CE03271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6E5-4346-4B33-81ED-5DC4205B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B6E-7A54-4D9F-97BB-814BF29A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8C3A-EF4C-4A1C-880D-64151D72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B398-D127-4878-9D71-625E2064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F517-305B-4A01-B6BB-F5301883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5883-1784-41BE-BDD5-3095E5CD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C7ED-1BEA-417B-8DAA-9FFE24D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20B4-2C1B-4368-B338-AE0608EC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033D-0491-4598-A136-72567C5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111-4476-4DB7-93AB-A01BDB66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4659-E538-45AD-B46F-00E36B35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7E7A-ABF2-443E-B524-2C0D15CC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6C42-D356-4F7D-AF31-680893D3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C343-DFE6-47A7-82B6-A5DD4950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3637-553D-4039-8F03-B115E323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14E-9D9F-4A3C-96F9-A311198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FD9-E935-4BBD-A567-24BA232F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74B-A513-43CB-AB94-5261B22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913-446C-4B58-A3ED-14645B84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31F-593A-40F5-BAA5-F1B0BF5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1FD-84F3-4D6B-B442-143A705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BE1-4089-41B6-8FA3-B8A912EA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9973-0F28-4D2E-8142-2BD21DC2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FBBC-1A35-4138-ACC3-8D9B203B4D33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Historical Fiction and Summarization Strateg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ummariz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quires high level thinking process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alyze and t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lete, substitute, keep, rewor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ust be aware of text structur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ust be metacognitive and able to monit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roblem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 sure what’s important, too much information (retell everything); not enough of the important information, and not know how to “use their own words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ummarizing (Modeling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elpful to start with pictures/photos and real-life experiences (movies, weekend, game, etc.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-aloud is key, but difficult! One way to model summarizing with informational text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oM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ross out small words, such as prepositions &amp; conjuncture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ghlight important information in the remaining text;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(since this is just a placeholder, students have fun substituting other vowels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ke notes based on the highlighted information by abbreviating, truncating, making lists, using symbols, and drawing instead of writing full sentences;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ut the notes in their own words. 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ummarizing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(Practice – let strategy gel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ce you have modeled how summarizing works, you might try using concrete cognitive organizers and provide multiple &amp; different opportunities for practic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ory frames (Frame It In 5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mebody/Wanted/But/So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ap It Up In A Quot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ke It Your Ow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Big Sketc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Historical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listic fiction set in the historical pa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re a sense of the time period and a rousing story that actually could have taken plac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ot, setting, character, theme,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w Trend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istorical picture books (for younger &amp; older studen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istorical fiction series (</a:t>
            </a: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Dear Americ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by Scholastic)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Historical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istorically researched with imaginary characte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vented character lives amid authentic events, settings, and issu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istorical period piece: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historical context focuses on social customs, values, and practices of the perio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ime travel: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Contemporary characters transported to the past and return with deeper understanding of histo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ersonal chronicle: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author relieves memories and experiences through documented journal entries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re does </a:t>
            </a: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Running Out of Tim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it in?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enefits of Historical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esents historical facts through everyday life of young people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ovides personal interaction with and understanding of people, places, and events (attitudes, social conditions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Enjoyment in a literary genre steeped in historical accuracy yet focused on strong character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The Apprenticeship of Lucas Whitake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Modern day health and witchcraf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Fever 1793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(Yellow fev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ontinue work on full lesson plan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Begin Reading Running Out of Time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Book Activity 9 and 10 with Running Out of Tim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tivity 9: Double Entry Journ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tivity 10: Interdisciplinary Extension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ue November 19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Lesson Plans Due before or on November 23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We’ll have fun at the end of the semester exploring multicultural and international literature.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ook Activity 7 Feedbac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PLOT SUMMARY: In this story, 12-year old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Hollis Woods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s a foster child.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The problem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s she has trouble feelings like she belongs in any family and is constantly running away from her foster homes. 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o first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, Hollis is placed with Josie, where she finally feels that she’s in a home where she is needed and wants to stay a while.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But,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Josie is showing signs of Alzheimer’s and the two of them fear that the agency is going to take Hollis out of her house. Hollis &amp; Josie both run away to the Regan’s vacant summer home, but they slowly realize this cannot be a permanent solution. 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The problem gets solved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en Beatrice agrees to care for Josie and Hollis is allowed to visit once a month.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n the end,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llis returns to the Regan’s and finally has the family she has always wanted.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The author’s message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s about the importance of family and how everyone has the fundamental need to feel they belong.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ook Activity 7 Feedbac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Character Development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Use selected descriptive adjectives (and a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good example) to capture the essence of Hollis’ changing character from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he beginning &gt; to the middle &gt; to the end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Goals for Understanding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e specific to help guide your discussion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otentially Complicated Issues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Provide questions AND answers – this will help guide your wording of the queries to stay focused!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re-Reading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Engage your students (rather than just tell them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Queries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Dig deep; build thinking and foster discussion/elaboration; move beyond “good”, “happy”, and “mad” to get at the underlying causes of these emotions, as well as Hollis’ hopes, fears, and “issues”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ost Reading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f your queries were effective, an engaging prompt should inspire your students to tell YOU what they learned about the big ideas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1. Consider the challenges involved with teaching and learning how to </a:t>
            </a: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ummarize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2. Apply summarization strategies using a variety of </a:t>
            </a: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upportive advanced organizers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and strategy prompt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the elements of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ality historic fic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Running Out of Tim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Reflecting on Completing a Summary Chart While Reading A Novel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k with your group members to discuss your reactions to completing the “Summary Chart” for Hollis Wood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lease frame your thinking in th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nefit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lleng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o this activit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onu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sider other ways you might have organized a summary chart to emphasize big ideas in the book – be creative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a section of the board space to post your ideas.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nefits of Summary Char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halleng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ummary Char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905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nefits of Summary Char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ganized; forces students to be concis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Quick reference, quotes easily available,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mini-timeline, helps with memory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rces students to focus &amp; keep up with reading;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measure understanding of content;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students think while read; points out main ideas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sures comprehens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hallenges with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ummary Char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520" y="1905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arge handwriting; What if student loses it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ing for disorganized student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fusion over “inner thought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n’t want kids to just focus on picking quotes rather than absorbing content; or get caught up in too much detail rather than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rd to put down key ideas for some students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rd to pick “important quotes” and main points (needs modeling)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ummarizing: Define/Explai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tating the essence of the text in a new manner using as few words as possible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s.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tell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-depth account of facts and 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s.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ynthesiz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terpreting and creating your own idea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ing actually begins </a:t>
            </a: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you start reading!</a:t>
            </a: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t a purpose and predict/monitor/verify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of summary depends on depth of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cess and product of summarizing depends on the type of text and purpose for reading (e.g., fiction/non-fictio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ummarizing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(Define/Explain)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ffective frameworks for…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ummarizing fiction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&gt;  ??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ory elements (beg/mid/end &gt;&gt; setting, characters, problem, key events, solution, end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ummarizing non-fiction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&gt; ??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ideas and relationships between (main idea/detail; compare/contrast; cause/effect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2:18:10Z</dcterms:created>
  <dc:creator>Julie Coiro</dc:creator>
  <dc:description/>
  <dc:language>en-US</dc:language>
  <cp:lastModifiedBy>Julie Coiro</cp:lastModifiedBy>
  <cp:lastPrinted>2008-03-06T01:50:51Z</cp:lastPrinted>
  <dcterms:modified xsi:type="dcterms:W3CDTF">2010-11-10T15:25:29Z</dcterms:modified>
  <cp:revision>319</cp:revision>
  <dc:subject/>
  <dc:title>Metacognitive Strategy Instruction to Enhance Reading Comprehension</dc:title>
</cp:coreProperties>
</file>